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7240" y="351108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9920" y="108540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7240" y="35110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9920" y="35110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5240" y="108540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2880" y="108540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7240" y="351108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5240" y="351108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2880" y="351108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7240" y="10854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37926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085400"/>
            <a:ext cx="37926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52560"/>
            <a:ext cx="77724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085400"/>
            <a:ext cx="37926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7240" y="35110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37926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08540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9920" y="35110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08540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51108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231040" cy="6183360"/>
            <a:chOff x="457200" y="304920"/>
            <a:chExt cx="8231040" cy="6183360"/>
          </a:xfrm>
        </p:grpSpPr>
        <p:grpSp>
          <p:nvGrpSpPr>
            <p:cNvPr id="1" name="Group 3"/>
            <p:cNvGrpSpPr/>
            <p:nvPr/>
          </p:nvGrpSpPr>
          <p:grpSpPr>
            <a:xfrm>
              <a:off x="457200" y="304920"/>
              <a:ext cx="8231040" cy="1459080"/>
              <a:chOff x="457200" y="304920"/>
              <a:chExt cx="8231040" cy="14590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457200" y="314640"/>
                <a:ext cx="136440" cy="1449360"/>
              </a:xfrm>
              <a:custGeom>
                <a:avLst/>
                <a:gdLst/>
                <a:ahLst/>
                <a:rect l="l" t="t" r="r" b="b"/>
                <a:pathLst>
                  <a:path w="86" h="913">
                    <a:moveTo>
                      <a:pt x="0" y="0"/>
                    </a:moveTo>
                    <a:lnTo>
                      <a:pt x="85" y="96"/>
                    </a:lnTo>
                    <a:lnTo>
                      <a:pt x="85" y="816"/>
                    </a:lnTo>
                    <a:lnTo>
                      <a:pt x="0" y="9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8550000" y="304920"/>
                <a:ext cx="137880" cy="1444680"/>
              </a:xfrm>
              <a:custGeom>
                <a:avLst/>
                <a:gdLst/>
                <a:ahLst/>
                <a:rect l="l" t="t" r="r" b="b"/>
                <a:pathLst>
                  <a:path w="87" h="910">
                    <a:moveTo>
                      <a:pt x="86" y="0"/>
                    </a:moveTo>
                    <a:lnTo>
                      <a:pt x="0" y="93"/>
                    </a:lnTo>
                    <a:lnTo>
                      <a:pt x="0" y="813"/>
                    </a:lnTo>
                    <a:lnTo>
                      <a:pt x="86" y="909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57200" y="309600"/>
                <a:ext cx="8231040" cy="163800"/>
              </a:xfrm>
              <a:custGeom>
                <a:avLst/>
                <a:gdLst/>
                <a:ahLst/>
                <a:rect l="l" t="t" r="r" b="b"/>
                <a:pathLst>
                  <a:path w="5185" h="103">
                    <a:moveTo>
                      <a:pt x="0" y="0"/>
                    </a:moveTo>
                    <a:lnTo>
                      <a:pt x="5184" y="3"/>
                    </a:lnTo>
                    <a:lnTo>
                      <a:pt x="5093" y="102"/>
                    </a:lnTo>
                    <a:lnTo>
                      <a:pt x="88" y="10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457200" y="471600"/>
              <a:ext cx="8231040" cy="6016680"/>
              <a:chOff x="457200" y="471600"/>
              <a:chExt cx="8231040" cy="6016680"/>
            </a:xfrm>
          </p:grpSpPr>
          <p:sp>
            <p:nvSpPr>
              <p:cNvPr id="6" name="Freeform 8"/>
              <p:cNvSpPr/>
              <p:nvPr/>
            </p:nvSpPr>
            <p:spPr>
              <a:xfrm>
                <a:off x="457200" y="1290960"/>
                <a:ext cx="125280" cy="5197320"/>
              </a:xfrm>
              <a:custGeom>
                <a:avLst/>
                <a:gdLst/>
                <a:ahLst/>
                <a:rect l="l" t="t" r="r" b="b"/>
                <a:pathLst>
                  <a:path w="79" h="3274">
                    <a:moveTo>
                      <a:pt x="0" y="0"/>
                    </a:moveTo>
                    <a:lnTo>
                      <a:pt x="78" y="107"/>
                    </a:lnTo>
                    <a:lnTo>
                      <a:pt x="78" y="3166"/>
                    </a:lnTo>
                    <a:lnTo>
                      <a:pt x="0" y="327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550000" y="1195560"/>
                <a:ext cx="133200" cy="5278320"/>
              </a:xfrm>
              <a:custGeom>
                <a:avLst/>
                <a:gdLst/>
                <a:ahLst/>
                <a:rect l="l" t="t" r="r" b="b"/>
                <a:pathLst>
                  <a:path w="84" h="3325">
                    <a:moveTo>
                      <a:pt x="83" y="0"/>
                    </a:moveTo>
                    <a:lnTo>
                      <a:pt x="3" y="109"/>
                    </a:lnTo>
                    <a:lnTo>
                      <a:pt x="0" y="3233"/>
                    </a:lnTo>
                    <a:lnTo>
                      <a:pt x="83" y="3324"/>
                    </a:lnTo>
                    <a:lnTo>
                      <a:pt x="8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57200" y="6334200"/>
                <a:ext cx="8231040" cy="139680"/>
              </a:xfrm>
              <a:custGeom>
                <a:avLst/>
                <a:gdLst/>
                <a:ahLst/>
                <a:rect l="l" t="t" r="r" b="b"/>
                <a:pathLst>
                  <a:path w="5185" h="88">
                    <a:moveTo>
                      <a:pt x="0" y="87"/>
                    </a:moveTo>
                    <a:lnTo>
                      <a:pt x="5184" y="87"/>
                    </a:lnTo>
                    <a:lnTo>
                      <a:pt x="5095" y="0"/>
                    </a:lnTo>
                    <a:lnTo>
                      <a:pt x="89" y="0"/>
                    </a:lnTo>
                    <a:lnTo>
                      <a:pt x="0" y="8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91840" y="471600"/>
                <a:ext cx="7957800" cy="58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Click to edit the title text forma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7240" y="10854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887240" y="6445080"/>
            <a:ext cx="1423440" cy="3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</a:t>
            </a:r>
            <a:fld id="{D12EACFA-8D9D-4692-B581-9DFEF397842D}" type="slidenum">
              <a:rPr b="0" lang="en-US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7851600" y="6170760"/>
            <a:ext cx="83196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685800" y="6427800"/>
            <a:ext cx="32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2003  South-Western/Thomson Learning™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1120" y="619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ultiple Regress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3880" y="1118880"/>
            <a:ext cx="772812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ultiple Regression Mod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east Squares Method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ultiple Coefficient of Determ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del Assump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sting for Significa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the Estimated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Estimation and Predi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ualitative Independent Variab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sidual Analy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6114960" y="3808440"/>
          <a:ext cx="2286000" cy="20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3808440"/>
                    <a:ext cx="228600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29"/>
          <p:cNvSpPr/>
          <p:nvPr/>
        </p:nvSpPr>
        <p:spPr>
          <a:xfrm>
            <a:off x="4400640" y="2190600"/>
            <a:ext cx="3371760" cy="6289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Rectangle 1028"/>
          <p:cNvSpPr/>
          <p:nvPr/>
        </p:nvSpPr>
        <p:spPr>
          <a:xfrm>
            <a:off x="4400640" y="1467000"/>
            <a:ext cx="3962160" cy="62856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esting for Significance:  </a:t>
            </a:r>
            <a:r>
              <a:rPr b="0" i="1" lang="en-US" sz="2800" spc="-1" strike="noStrike">
                <a:solidFill>
                  <a:srgbClr val="66ffff"/>
                </a:solidFill>
                <a:latin typeface="Book Antiqua"/>
              </a:rPr>
              <a:t>t </a:t>
            </a: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test statistic:    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&lt; -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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r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&gt;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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6bf69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p-value: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&lt;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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based on a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distribution wi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1 degrees of freedo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1120" y="17604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esting for Significance: Multicollinearity 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2212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ter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multicollinearit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refers to the correlation among the independent variabl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n the independent variables are highly correlated (say, |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r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| &gt; .7), it is not possible to determine the separate effect of any particular independent variable on the dependent variabl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f the estimated regression equation is to be used only for predictive purposes, multicollinearity is usually not a serious problem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very attempt should be made to avoid including independent variables that are highly correlate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1120" y="119160"/>
            <a:ext cx="7772400" cy="86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the Estimated Regression Equation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for Estimation and Predic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8360" y="151740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procedures for estimating the mean value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predicting an individual value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n multiple regression are similar to those in simple regress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 substitute the given values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nto the estimated regression equation and use the corresponding value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s the point estimat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formulas required to develop interval estimates for the mean value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and for an individual value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re beyond the scope of the tex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ftware packages for multiple regression will often provide these interval estimat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278600" y="294624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50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Programmer Salary Survey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1564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software firm collected data for a sample of 2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uter programmers.  A suggestion was made th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gression analysis could be used to determine if sala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s related to the years of experience and the score 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firm’s programmer aptitude tes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years of experience, score on the aptitude test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d corresponding annual salary ($1000s) for a samp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 20 programmers is shown on the next slid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723960" y="1046160"/>
            <a:ext cx="7581960" cy="497376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1120" y="1951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Programmer Salary Survey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1600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628560"/>
                <a:tab algn="ctr" pos="1771560"/>
                <a:tab algn="ctr" pos="2914560"/>
                <a:tab algn="ctr" pos="4343400"/>
                <a:tab algn="ctr" pos="56008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Exper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cor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alar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Exper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cor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ala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628560"/>
                <a:tab algn="ctr" pos="1771560"/>
                <a:tab algn="ctr" pos="2914560"/>
                <a:tab algn="ctr" pos="4343400"/>
                <a:tab algn="ctr" pos="56008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8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628560"/>
                <a:tab algn="ctr" pos="1771560"/>
                <a:tab algn="ctr" pos="2914560"/>
                <a:tab algn="ctr" pos="4343400"/>
                <a:tab algn="ctr" pos="56008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6.6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628560"/>
                <a:tab algn="ctr" pos="1771560"/>
                <a:tab algn="ctr" pos="2914560"/>
                <a:tab algn="ctr" pos="4343400"/>
                <a:tab algn="ctr" pos="56008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3.7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6.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628560"/>
                <a:tab algn="ctr" pos="1771560"/>
                <a:tab algn="ctr" pos="2914560"/>
                <a:tab algn="ctr" pos="4343400"/>
                <a:tab algn="ctr" pos="56008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4.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1.6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628560"/>
                <a:tab algn="ctr" pos="1771560"/>
                <a:tab algn="ctr" pos="2914560"/>
                <a:tab algn="ctr" pos="4343400"/>
                <a:tab algn="ctr" pos="56008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5.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628560"/>
                <a:tab algn="ctr" pos="1771560"/>
                <a:tab algn="ctr" pos="2914560"/>
                <a:tab algn="ctr" pos="4343400"/>
                <a:tab algn="ctr" pos="56008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7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628560"/>
                <a:tab algn="ctr" pos="1771560"/>
                <a:tab algn="ctr" pos="2914560"/>
                <a:tab algn="ctr" pos="4343400"/>
                <a:tab algn="ctr" pos="56008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2.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9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0.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628560"/>
                <a:tab algn="ctr" pos="1771560"/>
                <a:tab algn="ctr" pos="2914560"/>
                <a:tab algn="ctr" pos="4343400"/>
                <a:tab algn="ctr" pos="56008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3.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3.9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628560"/>
                <a:tab algn="ctr" pos="1771560"/>
                <a:tab algn="ctr" pos="2914560"/>
                <a:tab algn="ctr" pos="4343400"/>
                <a:tab algn="ctr" pos="56008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8.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628560"/>
                <a:tab algn="ctr" pos="1771560"/>
                <a:tab algn="ctr" pos="2914560"/>
                <a:tab algn="ctr" pos="4343400"/>
                <a:tab algn="ctr" pos="56008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9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4464000" y="1217520"/>
            <a:ext cx="0" cy="4668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2933640" y="3257640"/>
            <a:ext cx="3314880" cy="5713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1120" y="1951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Programmer Salary Survey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7240" y="1111320"/>
            <a:ext cx="7772400" cy="50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Multiple Regression Mod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ppose we believe that salary 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is related to the years of experience 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and the score on the programmer aptitude test 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by the following regression model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= annual salary ($000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= years of experie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= score on programmer aptitude te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1120" y="1382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Programmer Salary Survey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11132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Multiple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the assumption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= 0, we obtai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stimated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re the least squares estimates of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304080" y="367020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2"/>
          <p:cNvSpPr/>
          <p:nvPr/>
        </p:nvSpPr>
        <p:spPr>
          <a:xfrm>
            <a:off x="1104840" y="1733400"/>
            <a:ext cx="7257960" cy="38862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1120" y="156960"/>
            <a:ext cx="7772400" cy="59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Programmer Salary Survey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7240" y="111132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olving for the Estimates of </a:t>
            </a:r>
            <a:r>
              <a:rPr b="0" i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66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66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66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35440" y="2711520"/>
            <a:ext cx="1797120" cy="2597040"/>
          </a:xfrm>
          <a:prstGeom prst="rect">
            <a:avLst/>
          </a:prstGeom>
          <a:gradFill rotWithShape="0">
            <a:gsLst>
              <a:gs pos="0">
                <a:srgbClr val="2f2f47"/>
              </a:gs>
              <a:gs pos="50000">
                <a:srgbClr val="666699"/>
              </a:gs>
              <a:gs pos="100000">
                <a:srgbClr val="2f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cka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Solv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ultip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gress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273720" y="2711520"/>
            <a:ext cx="1797120" cy="2597040"/>
          </a:xfrm>
          <a:prstGeom prst="rect">
            <a:avLst/>
          </a:prstGeom>
          <a:gradFill rotWithShape="0">
            <a:gsLst>
              <a:gs pos="0">
                <a:srgbClr val="373737"/>
              </a:gs>
              <a:gs pos="50000">
                <a:srgbClr val="777777"/>
              </a:gs>
              <a:gs pos="100000">
                <a:srgbClr val="37373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438200" y="2195640"/>
            <a:ext cx="171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put Da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085080" y="1833480"/>
            <a:ext cx="2179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east Squar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230640" y="4019400"/>
            <a:ext cx="592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5649840" y="4019400"/>
            <a:ext cx="592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415880" y="2711520"/>
            <a:ext cx="1797120" cy="25970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    78   2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  100   43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     .      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     .      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    89   3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7240" y="127584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Formula Worksheet (showing data entered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838080" y="1905120"/>
          <a:ext cx="7486920" cy="36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48692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"/>
          <p:cNvSpPr/>
          <p:nvPr/>
        </p:nvSpPr>
        <p:spPr>
          <a:xfrm>
            <a:off x="1104480" y="5692680"/>
            <a:ext cx="37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e:  Rows 10-21 are not show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36480" y="167004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Performing the Multiple Regression Analy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Select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ool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ull-down men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Choose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ata Analysi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p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Choos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gressi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from the list of Analysi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Too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… 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tinue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6343560" y="3429000"/>
            <a:ext cx="476280" cy="0"/>
          </a:xfrm>
          <a:prstGeom prst="line">
            <a:avLst/>
          </a:prstGeom>
          <a:ln w="1260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2133720" y="4343400"/>
            <a:ext cx="4914720" cy="62856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133720" y="3029040"/>
            <a:ext cx="4914720" cy="62856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133720" y="1733400"/>
            <a:ext cx="4914720" cy="62892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1120" y="1191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Multiple Regression Model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he Multiple Regression Mod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6bf69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. . .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he Multiple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. . .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. . . +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561040" y="433692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7240" y="137808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Performing the Multiple Regression Analy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ep 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When the Regression dialog box appear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ter D1:D21 i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put Y Rang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ter B1:C21 i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put X Rang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abe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fidenc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ter 95 in th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fidence Lev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utput Rang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enter A24 in th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utput Rang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o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O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7240" y="13140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Regression Statistic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1104840" y="2000160"/>
          <a:ext cx="6851880" cy="36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000160"/>
                    <a:ext cx="685188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7240" y="133992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ANOVA Outpu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571680" y="2044800"/>
          <a:ext cx="787392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044800"/>
                    <a:ext cx="78739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7"/>
          <p:cNvSpPr/>
          <p:nvPr/>
        </p:nvSpPr>
        <p:spPr>
          <a:xfrm flipH="1">
            <a:off x="2857680" y="4807080"/>
            <a:ext cx="4381200" cy="1218960"/>
          </a:xfrm>
          <a:prstGeom prst="wedgeRoundRectCallout">
            <a:avLst>
              <a:gd name="adj1" fmla="val -42467"/>
              <a:gd name="adj2" fmla="val -151694"/>
              <a:gd name="adj3" fmla="val 16667"/>
            </a:avLst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Significance F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value i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ell F35 is the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-value us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o test for overall significanc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7240" y="120024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Regression Equation Outpu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1295280" y="1962000"/>
          <a:ext cx="6540480" cy="23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62000"/>
                    <a:ext cx="654048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6"/>
          <p:cNvSpPr/>
          <p:nvPr/>
        </p:nvSpPr>
        <p:spPr>
          <a:xfrm>
            <a:off x="1639800" y="44672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e:  Columns F-I are not show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AutoShape 7"/>
          <p:cNvSpPr/>
          <p:nvPr/>
        </p:nvSpPr>
        <p:spPr>
          <a:xfrm flipH="1">
            <a:off x="3466440" y="4952880"/>
            <a:ext cx="4381560" cy="1219320"/>
          </a:xfrm>
          <a:prstGeom prst="wedgeRoundRectCallout">
            <a:avLst>
              <a:gd name="adj1" fmla="val -38986"/>
              <a:gd name="adj2" fmla="val -167060"/>
              <a:gd name="adj3" fmla="val 16667"/>
            </a:avLst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P-value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in cell E41 is us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o test for the individua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ignificance of Experienc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7240" y="10854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Regression Equation Outpu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295280" y="1847880"/>
          <a:ext cx="6540480" cy="239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47880"/>
                    <a:ext cx="654048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6"/>
          <p:cNvSpPr/>
          <p:nvPr/>
        </p:nvSpPr>
        <p:spPr>
          <a:xfrm>
            <a:off x="1620720" y="4305240"/>
            <a:ext cx="463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Note:  Columns F-I are not shown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AutoShape 7"/>
          <p:cNvSpPr/>
          <p:nvPr/>
        </p:nvSpPr>
        <p:spPr>
          <a:xfrm flipH="1">
            <a:off x="3466440" y="4838760"/>
            <a:ext cx="4381560" cy="1219320"/>
          </a:xfrm>
          <a:prstGeom prst="wedgeRoundRectCallout">
            <a:avLst>
              <a:gd name="adj1" fmla="val -39421"/>
              <a:gd name="adj2" fmla="val -127865"/>
              <a:gd name="adj3" fmla="val 16667"/>
            </a:avLst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P-value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in cell E42 is us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o test for the individua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ignificance of Test Scor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00200" y="126324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stimated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LARY = 3.174 + 1.404(EXPER) + 0.2509(SCORE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te:  Predicted salary will be in thousands of dolla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7240" y="14536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Regression Equation Outpu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431640" y="2216160"/>
          <a:ext cx="8307720" cy="22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2216160"/>
                    <a:ext cx="830772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"/>
          <p:cNvSpPr/>
          <p:nvPr/>
        </p:nvSpPr>
        <p:spPr>
          <a:xfrm>
            <a:off x="810360" y="458784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e:  Columns C-E are hidde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1120" y="1663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Programmer Salary Survey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11564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  Te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Hypotheses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 One or both of the paramet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not equal to zero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.05 and d.f. = 2, 17: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.0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3.59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F &gt; 3.59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MSR/MSE = 250.16/5.85 = 42.76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 can 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1120" y="18540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Programmer Salary Survey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90480" y="1147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  Test for Significance of Individual Paramet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Hypotheses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.05 and d.f. = 17,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.02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2.1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&gt; 2.1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-274320"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 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809960" y="2130480"/>
            <a:ext cx="115920" cy="21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71" name="Object 5"/>
          <p:cNvGraphicFramePr/>
          <p:nvPr/>
        </p:nvGraphicFramePr>
        <p:xfrm>
          <a:off x="1982880" y="4272120"/>
          <a:ext cx="2516040" cy="83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2880" y="4272120"/>
                    <a:ext cx="251604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5113440" y="4290840"/>
          <a:ext cx="250344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3440" y="4290840"/>
                    <a:ext cx="250344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1120" y="11880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Qualitative Independent Variable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90480" y="1147680"/>
            <a:ext cx="7772400" cy="487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many situations we must work wi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qualitative independent variables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ch as gender (male, female), method of payment (cash, check, credit card), etc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example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might represent gender wher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 indicates male an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1 indicates femal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this case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call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dummy or indicator variabl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f a qualitative variable has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levels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1 dummy variables are required, with each dummy variable being coded as 0 or 1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example, a variable with levels A, B, and C would be represented by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values of (0, 0)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1, 0), and (0,1), respectivel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1120" y="1663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Least Squares Method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11132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Least Squares Criter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mputation of Coefficients Valu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formulas for the regression coefficients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. . .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p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volve the use of matrix algebra.  We will rely on computer software packages to perform the calculation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A Note on Interpretation of Coeffici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represents an estimate of the change in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corresponding to a one-unit change in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when all other independent variables are held constan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513240" y="1566720"/>
          <a:ext cx="2122560" cy="4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3240" y="1566720"/>
                    <a:ext cx="2122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5"/>
          <p:cNvSpPr/>
          <p:nvPr/>
        </p:nvSpPr>
        <p:spPr>
          <a:xfrm>
            <a:off x="4999320" y="146052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1120" y="15732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Programmer Salary Survey (B)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0480" y="1147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 an extension of the problem involving th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uter programmer salary survey, suppose th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nagement also believes that the annual salary 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lated to whether or not the individual has a gradua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gree in computer science or information system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years of experience, the score on the programm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ptitude test, whether or not the individual has 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levant graduate degree, and the annual salary ($000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each of the sampled 20 programmers are shown 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next slid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476280" y="1065240"/>
            <a:ext cx="8115120" cy="464976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1120" y="18540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Programmer Salary Survey (B)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147320"/>
            <a:ext cx="79106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240" indent="0">
              <a:spcBef>
                <a:spcPts val="601"/>
              </a:spcBef>
              <a:buNone/>
              <a:tabLst>
                <a:tab algn="l" pos="0"/>
                <a:tab algn="ctr" pos="343080"/>
                <a:tab algn="ctr" pos="1257480"/>
                <a:tab algn="ctr" pos="2171880"/>
                <a:tab algn="ctr" pos="3257640"/>
                <a:tab algn="ctr" pos="4400640"/>
                <a:tab algn="ctr" pos="5315040"/>
                <a:tab algn="ctr" pos="6229440"/>
                <a:tab algn="ctr" pos="7257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Exp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cor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Degr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alar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Exp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cor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Degr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ala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343080"/>
                <a:tab algn="ctr" pos="1257480"/>
                <a:tab algn="ctr" pos="2171880"/>
                <a:tab algn="ctr" pos="3257640"/>
                <a:tab algn="ctr" pos="4400640"/>
                <a:tab algn="ctr" pos="5315040"/>
                <a:tab algn="ctr" pos="6229440"/>
                <a:tab algn="ctr" pos="7257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8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343080"/>
                <a:tab algn="ctr" pos="1257480"/>
                <a:tab algn="ctr" pos="2171880"/>
                <a:tab algn="ctr" pos="3257640"/>
                <a:tab algn="ctr" pos="4400640"/>
                <a:tab algn="ctr" pos="5315040"/>
                <a:tab algn="ctr" pos="6229440"/>
                <a:tab algn="ctr" pos="7257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6.6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343080"/>
                <a:tab algn="ctr" pos="1257480"/>
                <a:tab algn="ctr" pos="2171880"/>
                <a:tab algn="ctr" pos="3257640"/>
                <a:tab algn="ctr" pos="4400640"/>
                <a:tab algn="ctr" pos="5315040"/>
                <a:tab algn="ctr" pos="6229440"/>
                <a:tab algn="ctr" pos="7257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3.7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6.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343080"/>
                <a:tab algn="ctr" pos="1257480"/>
                <a:tab algn="ctr" pos="2171880"/>
                <a:tab algn="ctr" pos="3257640"/>
                <a:tab algn="ctr" pos="4400640"/>
                <a:tab algn="ctr" pos="5315040"/>
                <a:tab algn="ctr" pos="6229440"/>
                <a:tab algn="ctr" pos="7257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4.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1.6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343080"/>
                <a:tab algn="ctr" pos="1257480"/>
                <a:tab algn="ctr" pos="2171880"/>
                <a:tab algn="ctr" pos="3257640"/>
                <a:tab algn="ctr" pos="4400640"/>
                <a:tab algn="ctr" pos="5315040"/>
                <a:tab algn="ctr" pos="6229440"/>
                <a:tab algn="ctr" pos="7257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5.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343080"/>
                <a:tab algn="ctr" pos="1257480"/>
                <a:tab algn="ctr" pos="2171880"/>
                <a:tab algn="ctr" pos="3257640"/>
                <a:tab algn="ctr" pos="4400640"/>
                <a:tab algn="ctr" pos="5315040"/>
                <a:tab algn="ctr" pos="6229440"/>
                <a:tab algn="ctr" pos="7257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7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343080"/>
                <a:tab algn="ctr" pos="1257480"/>
                <a:tab algn="ctr" pos="2171880"/>
                <a:tab algn="ctr" pos="3257640"/>
                <a:tab algn="ctr" pos="4400640"/>
                <a:tab algn="ctr" pos="5315040"/>
                <a:tab algn="ctr" pos="6229440"/>
                <a:tab algn="ctr" pos="7257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2.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9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0.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343080"/>
                <a:tab algn="ctr" pos="1257480"/>
                <a:tab algn="ctr" pos="2171880"/>
                <a:tab algn="ctr" pos="3257640"/>
                <a:tab algn="ctr" pos="4400640"/>
                <a:tab algn="ctr" pos="5315040"/>
                <a:tab algn="ctr" pos="6229440"/>
                <a:tab algn="ctr" pos="7257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No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3.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3.9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343080"/>
                <a:tab algn="ctr" pos="1257480"/>
                <a:tab algn="ctr" pos="2171880"/>
                <a:tab algn="ctr" pos="3257640"/>
                <a:tab algn="ctr" pos="4400640"/>
                <a:tab algn="ctr" pos="5315040"/>
                <a:tab algn="ctr" pos="6229440"/>
                <a:tab algn="ctr" pos="7257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8.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343080"/>
                <a:tab algn="ctr" pos="1257480"/>
                <a:tab algn="ctr" pos="2171880"/>
                <a:tab algn="ctr" pos="3257640"/>
                <a:tab algn="ctr" pos="4400640"/>
                <a:tab algn="ctr" pos="5315040"/>
                <a:tab algn="ctr" pos="6229440"/>
                <a:tab algn="ctr" pos="7257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9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4572000" y="1209600"/>
            <a:ext cx="0" cy="4408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1120" y="1472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Programmer Salary Survey (B)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0480" y="11473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Multiple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stimated Regression Equ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annual salary ($000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years of experie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score on programmer aptitude te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 if individu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does no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have a grad. degre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 if individu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do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have a grad. degre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te: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referred to as a dummy variable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132720" y="239400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7240" y="14155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Formula Worksheet (showing dat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123920" y="2044800"/>
          <a:ext cx="7151760" cy="34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2044800"/>
                    <a:ext cx="715176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5"/>
          <p:cNvSpPr/>
          <p:nvPr/>
        </p:nvSpPr>
        <p:spPr>
          <a:xfrm>
            <a:off x="1392120" y="56167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e:  Rows 9-21 are not show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7240" y="128916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Regression Statistic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104840" y="1974960"/>
          <a:ext cx="6851880" cy="36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974960"/>
                    <a:ext cx="685188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7240" y="14670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ANOVA Outpu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571680" y="2171880"/>
          <a:ext cx="787392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71880"/>
                    <a:ext cx="78739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7240" y="133992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Regression Equation Outpu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1295280" y="2101680"/>
          <a:ext cx="6197760" cy="22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01680"/>
                    <a:ext cx="6197760" cy="22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5"/>
          <p:cNvSpPr/>
          <p:nvPr/>
        </p:nvSpPr>
        <p:spPr>
          <a:xfrm>
            <a:off x="1639800" y="449280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e:  Columns F-I are not show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’s Regression Tool to Develop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Estimated Multiple Regression Equ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7240" y="14536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Regression Equation Outpu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431640" y="2216160"/>
          <a:ext cx="8307720" cy="22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2216160"/>
                    <a:ext cx="830772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5"/>
          <p:cNvSpPr/>
          <p:nvPr/>
        </p:nvSpPr>
        <p:spPr>
          <a:xfrm>
            <a:off x="810360" y="458784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e:  Columns C-E are hidde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Programmer Salary Survey (B)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Interpreting the Paramet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1.15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lary is expected to increase by $1,150 for each additional year of experience (when all other independent variables are held constan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Programmer Salary Survey (B)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Interpreting the Paramet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.197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lary is expected to increase by $197 for each additional point scored on the programmer aptitude test (when all other independent variables are held constan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1120" y="10908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he Multiple Coefficient of Determin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11600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lationship Among SST, SSR, S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ST = SSR + S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Multiple Coefficient of Determ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R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SSR/S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Adjusted Multiple Coefficient of Determ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2205000" y="2249640"/>
          <a:ext cx="4726080" cy="43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5000" y="2249640"/>
                    <a:ext cx="472608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5"/>
          <p:cNvSpPr/>
          <p:nvPr/>
        </p:nvSpPr>
        <p:spPr>
          <a:xfrm>
            <a:off x="6351840" y="214632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202640" y="214632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72" name="Object 7"/>
          <p:cNvGraphicFramePr/>
          <p:nvPr/>
        </p:nvGraphicFramePr>
        <p:xfrm>
          <a:off x="2967120" y="4681440"/>
          <a:ext cx="320184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67120" y="4681440"/>
                    <a:ext cx="32018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xample:  Programmer Salary Survey (B)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Interpreting the Paramet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2.28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lary is expected to be $2,280 higher for an individual with a graduate degree than one without a graduate degree (when all other independent variables are held constan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Residual Analysi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simple linear regression the residual plot again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d the residual plot agains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provide the same informat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multiple regression analysis it is preferable to use the residual plot against     to determine if the model assumptions are satisfie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1174680" y="1620720"/>
          <a:ext cx="20340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1620720"/>
                    <a:ext cx="203400" cy="368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19" name="Object 5"/>
          <p:cNvGraphicFramePr/>
          <p:nvPr/>
        </p:nvGraphicFramePr>
        <p:xfrm>
          <a:off x="4489560" y="2801880"/>
          <a:ext cx="20304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9560" y="2801880"/>
                    <a:ext cx="203040" cy="368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Residual Analysi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ndardized residuals are frequently used in residual plots for purposes of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dentifying outliers (typically, standardized residuals &lt; -2 or &gt; +2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viding insight about the assumption that the error term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has a normal distribu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omputation of the standardized residuals in multiple regression analysis is too complex to be done by han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cel’s Regression tool can be u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Construct 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 Standardized Residual Plo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7240" y="142884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Value Worksheet (Residual Outpu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781200" y="2114640"/>
          <a:ext cx="739116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114640"/>
                    <a:ext cx="73911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Text Box 5"/>
          <p:cNvSpPr/>
          <p:nvPr/>
        </p:nvSpPr>
        <p:spPr>
          <a:xfrm>
            <a:off x="1041120" y="5400720"/>
            <a:ext cx="37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e:  Rows 37-51 are not show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Using Excel to Construct 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a Standardized Residual Plo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685800" y="1619280"/>
          <a:ext cx="782964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19280"/>
                    <a:ext cx="7829640" cy="4267080"/>
                  </a:xfrm>
                  <a:prstGeom prst="rect">
                    <a:avLst/>
                  </a:prstGeom>
                  <a:ln w="19080">
                    <a:solidFill>
                      <a:srgbClr val="66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2" name="AutoShape 6"/>
          <p:cNvSpPr/>
          <p:nvPr/>
        </p:nvSpPr>
        <p:spPr>
          <a:xfrm>
            <a:off x="6819840" y="1200240"/>
            <a:ext cx="1257480" cy="438120"/>
          </a:xfrm>
          <a:prstGeom prst="wedgeRoundRectCallout">
            <a:avLst>
              <a:gd name="adj1" fmla="val -60606"/>
              <a:gd name="adj2" fmla="val 260509"/>
              <a:gd name="adj3" fmla="val 16667"/>
            </a:avLst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utlie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5"/>
          <p:cNvSpPr/>
          <p:nvPr/>
        </p:nvSpPr>
        <p:spPr>
          <a:xfrm>
            <a:off x="3781440" y="3238560"/>
            <a:ext cx="1557360" cy="1611360"/>
          </a:xfrm>
          <a:custGeom>
            <a:avLst/>
            <a:gdLst>
              <a:gd name="textAreaLeft" fmla="*/ 54720 w 1557360"/>
              <a:gd name="textAreaRight" fmla="*/ 1502640 w 1557360"/>
              <a:gd name="textAreaTop" fmla="*/ 54720 h 1611360"/>
              <a:gd name="textAreaBottom" fmla="*/ 1556640 h 1611360"/>
            </a:gdLst>
            <a:ahLst/>
            <a:rect l="textAreaLeft" t="textAreaTop" r="textAreaRight" b="textAreaBottom"/>
            <a:pathLst>
              <a:path w="21600" h="22349">
                <a:moveTo>
                  <a:pt x="2606" y="0"/>
                </a:moveTo>
                <a:arcTo wR="2606" hR="2606" stAng="16200000" swAng="-5400000"/>
                <a:lnTo>
                  <a:pt x="0" y="19743"/>
                </a:lnTo>
                <a:arcTo wR="2606" hR="2606" stAng="10800000" swAng="-5400000"/>
                <a:lnTo>
                  <a:pt x="18994" y="22349"/>
                </a:lnTo>
                <a:arcTo wR="2606" hR="2606" stAng="5400000" swAng="-5400000"/>
                <a:lnTo>
                  <a:pt x="21600" y="2606"/>
                </a:lnTo>
                <a:arcTo wR="2606" hR="2606" stAng="0" swAng="-5400000"/>
                <a:close/>
              </a:path>
            </a:pathLst>
          </a:custGeom>
          <a:noFill/>
          <a:ln w="5076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Freeform 6"/>
          <p:cNvSpPr/>
          <p:nvPr/>
        </p:nvSpPr>
        <p:spPr>
          <a:xfrm>
            <a:off x="3890880" y="2324160"/>
            <a:ext cx="1681200" cy="2670120"/>
          </a:xfrm>
          <a:custGeom>
            <a:avLst/>
            <a:gdLst/>
            <a:ahLst/>
            <a:rect l="l" t="t" r="r" b="b"/>
            <a:pathLst>
              <a:path w="1059" h="1682">
                <a:moveTo>
                  <a:pt x="119" y="784"/>
                </a:moveTo>
                <a:lnTo>
                  <a:pt x="0" y="1239"/>
                </a:lnTo>
                <a:lnTo>
                  <a:pt x="409" y="1681"/>
                </a:lnTo>
                <a:lnTo>
                  <a:pt x="1058" y="196"/>
                </a:lnTo>
                <a:lnTo>
                  <a:pt x="1058" y="0"/>
                </a:lnTo>
                <a:lnTo>
                  <a:pt x="334" y="1252"/>
                </a:lnTo>
                <a:lnTo>
                  <a:pt x="119" y="784"/>
                </a:lnTo>
              </a:path>
            </a:pathLst>
          </a:cu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1120" y="17604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odel Assumption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1564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Assumptions About the Error Term </a:t>
            </a:r>
            <a:r>
              <a:rPr b="0" i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erro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is a random variable with mean of zero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variance of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, denoted by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is the same for all values of the independent variabl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values of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are independen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erro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is a normally distributed random variable reflecting the deviation between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value and the expected value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given by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. . .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1120" y="1191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esting for Significance:  </a:t>
            </a:r>
            <a:r>
              <a:rPr b="0" i="1" lang="en-US" sz="2800" spc="-1" strike="noStrike">
                <a:solidFill>
                  <a:srgbClr val="66ffff"/>
                </a:solidFill>
                <a:latin typeface="Book Antiqua"/>
              </a:rPr>
              <a:t>F </a:t>
            </a: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7240" y="111132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Hypothe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. . .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p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 One or more of the paramet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not equal to zero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MSR/M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053"/>
          <p:cNvSpPr/>
          <p:nvPr/>
        </p:nvSpPr>
        <p:spPr>
          <a:xfrm>
            <a:off x="4057560" y="2209680"/>
            <a:ext cx="3390840" cy="59076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Rectangle 2052"/>
          <p:cNvSpPr/>
          <p:nvPr/>
        </p:nvSpPr>
        <p:spPr>
          <a:xfrm>
            <a:off x="4667400" y="1467000"/>
            <a:ext cx="2781000" cy="5904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esting for Significance:  </a:t>
            </a:r>
            <a:r>
              <a:rPr b="0" i="1" lang="en-US" sz="2800" spc="-1" strike="noStrike">
                <a:solidFill>
                  <a:srgbClr val="66ffff"/>
                </a:solidFill>
                <a:latin typeface="Book Antiqua"/>
              </a:rPr>
              <a:t>F </a:t>
            </a: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test statistic:        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&gt;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p-value: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&lt;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6bf69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based on an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distribution with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d.f. in the numerator an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1 d.f. in the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nominat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052"/>
          <p:cNvSpPr/>
          <p:nvPr/>
        </p:nvSpPr>
        <p:spPr>
          <a:xfrm>
            <a:off x="579600" y="1622520"/>
            <a:ext cx="8173800" cy="335736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esting for Significance:  </a:t>
            </a:r>
            <a:r>
              <a:rPr b="0" i="1" lang="en-US" sz="2800" spc="-1" strike="noStrike">
                <a:solidFill>
                  <a:srgbClr val="66ffff"/>
                </a:solidFill>
                <a:latin typeface="Book Antiqua"/>
              </a:rPr>
              <a:t>F </a:t>
            </a: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08540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ANOVA Table (assuming 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 independent variable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urce of     Sum of    Degrees of          Me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ariation    Squares     Freedom         Squares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gression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S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   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rro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S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tal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S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Line 2053"/>
          <p:cNvSpPr/>
          <p:nvPr/>
        </p:nvSpPr>
        <p:spPr>
          <a:xfrm>
            <a:off x="781200" y="2533680"/>
            <a:ext cx="781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86" name="Object 2054"/>
          <p:cNvGraphicFramePr/>
          <p:nvPr/>
        </p:nvGraphicFramePr>
        <p:xfrm>
          <a:off x="5315040" y="2643120"/>
          <a:ext cx="16002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0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643120"/>
                    <a:ext cx="1600200" cy="800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88" name="Object 2055"/>
          <p:cNvGraphicFramePr/>
          <p:nvPr/>
        </p:nvGraphicFramePr>
        <p:xfrm>
          <a:off x="5321160" y="3519360"/>
          <a:ext cx="204480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205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21160" y="3519360"/>
                    <a:ext cx="2044800" cy="800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90" name="Object 2056"/>
          <p:cNvGraphicFramePr/>
          <p:nvPr/>
        </p:nvGraphicFramePr>
        <p:xfrm>
          <a:off x="7397640" y="2643120"/>
          <a:ext cx="124488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Object 20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7640" y="2643120"/>
                    <a:ext cx="1244880" cy="723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1120" y="1472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esting for Significance:  </a:t>
            </a:r>
            <a:r>
              <a:rPr b="0" i="1" lang="en-US" sz="2800" spc="-1" strike="noStrike">
                <a:solidFill>
                  <a:srgbClr val="66ffff"/>
                </a:solidFill>
                <a:latin typeface="Book Antiqua"/>
              </a:rPr>
              <a:t>t </a:t>
            </a: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1132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Hypothe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Line 4"/>
          <p:cNvSpPr/>
          <p:nvPr/>
        </p:nvSpPr>
        <p:spPr>
          <a:xfrm flipV="1">
            <a:off x="4572000" y="2111400"/>
            <a:ext cx="115920" cy="21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95" name="Object 5"/>
          <p:cNvGraphicFramePr/>
          <p:nvPr/>
        </p:nvGraphicFramePr>
        <p:xfrm>
          <a:off x="4173480" y="2948040"/>
          <a:ext cx="8017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3480" y="2948040"/>
                    <a:ext cx="8017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qbool Hussain Sial</cp:lastModifiedBy>
  <dcterms:modified xsi:type="dcterms:W3CDTF">2017-10-11T09:54:34Z</dcterms:modified>
  <cp:revision>6</cp:revision>
  <dc:subject/>
  <dc:title>PowerPoint Presentation</dc:title>
</cp:coreProperties>
</file>